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369-0C2B-4005-9630-BCCF7D74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3F6-C387-4AD8-8419-7ED9576F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594-7612-4EF4-8FE1-0BC24D34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EFA-2D6C-4F9C-831F-2AC619AA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428-ED35-4875-81A9-A0F95CDC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86A-65CA-498A-8CB5-6B80B90C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C13-0F88-4F49-8F20-467A02EB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95D-D30A-47B4-835B-7D40380E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E5F-DDA7-42BF-9182-A7A79DD0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E19-9011-4A16-BA81-BA9196CE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55F-96EE-4370-9CBA-ABB7CC3C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003-3CA7-44C1-A68B-EC06A71E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3A56-6712-4D2E-814E-F5CABEED9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Организация экспериментальных исследований при оценке качества  мясных проду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195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атуральные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луфабрикаты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, 2,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яемые показател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Органолептика (внешний вид, вкус и запах, консистенция),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Масса порции,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Показатели качества свежести мя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Толщина тестовой оболочки, толщ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лочки в местах заделки,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Содержание фарша к массе пельменей,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Массовая доля влаги,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) Массовая доля поваренной соли,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) Массовая доля жира в фарше,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) Массовая доля хлеба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333360"/>
            <a:ext cx="159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04000" y="333360"/>
            <a:ext cx="159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404640"/>
            <a:ext cx="159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тлеты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, 2, 6, 7, 8, 9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6720" y="476280"/>
            <a:ext cx="159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льмени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, 2, 4, 5, 7, 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5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gency FB"/>
              </a:rPr>
              <a:t>Алгоритм выполнения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бор проб мясных полуфабрик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готовка к проведению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ганолептический анализ, физико-химические показ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erlin Sans FB Demi"/>
              </a:rPr>
              <a:t>Физико-химические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ение содержания вл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ение содержания жи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ение содержания поваренной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ение содержания хлеба в котле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чественное определение растительных наполн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40"/>
                            </p:stCondLst>
                            <p:childTnLst>
                              <p:par>
                                <p:cTn id="11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240"/>
                            </p:stCondLst>
                            <p:childTnLst>
                              <p:par>
                                <p:cTn id="12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240"/>
                            </p:stCondLst>
                            <p:childTnLst>
                              <p:par>
                                <p:cTn id="13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240"/>
                            </p:stCondLst>
                            <p:childTnLst>
                              <p:par>
                                <p:cTn id="1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240"/>
                            </p:stCondLst>
                            <p:childTnLst>
                              <p:par>
                                <p:cTn id="14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Оформление результатов эксперимен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писать алгоритм и схему проведения экспериме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фиксировать сущность методов исследования качественных характеристик мясных полуфабрика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нные органолептического анализа занести в таблицу, если есть дефекты, найти возможную причину их возникнов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рмативные и полученные экспериментальные данные массовой доли влаги, массовой доли жира, хлорида натрия и содержания хлеба в котлетах занести в табли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анализировать качество исследуемых мясных полуфабрикатов в сравнении с нормативными данными (приложения 2, 3, 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у закончить выводами о соответствии качества исследуемого вида мясных полуфабрикатов нормативным данным и указать рекомендуемые пути повышения качества данного проду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"/>
                            </p:stCondLst>
                            <p:childTnLst>
                              <p:par>
                                <p:cTn id="1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900"/>
                            </p:stCondLst>
                            <p:childTnLst>
                              <p:par>
                                <p:cTn id="1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400"/>
                            </p:stCondLst>
                            <p:childTnLst>
                              <p:par>
                                <p:cTn id="1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900"/>
                            </p:stCondLst>
                            <p:childTnLst>
                              <p:par>
                                <p:cTn id="1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400"/>
                            </p:stCondLst>
                            <p:childTnLst>
                              <p:par>
                                <p:cTn id="1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900"/>
                            </p:stCondLst>
                            <p:childTnLst>
                              <p:par>
                                <p:cTn id="2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Bauhaus 93"/>
              </a:rPr>
              <a:t>Характеристика фарш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125360"/>
          <a:ext cx="8713800" cy="5394600"/>
        </p:xfrm>
        <a:graphic>
          <a:graphicData uri="http://schemas.openxmlformats.org/drawingml/2006/table">
            <a:tbl>
              <a:tblPr/>
              <a:tblGrid>
                <a:gridCol w="3960720"/>
                <a:gridCol w="744480"/>
                <a:gridCol w="712800"/>
                <a:gridCol w="798480"/>
                <a:gridCol w="852480"/>
                <a:gridCol w="720720"/>
                <a:gridCol w="9241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ного нату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ного особ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ифштек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яжь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нь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родная масса, без костей, хрящей, сухожилий,  грубой соединительной ткани, кровяных сгустков и грубых пле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льчение на волчке с диаметром отверстий,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темно-красного до светло-розо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йственный доброкачественному сыр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влаги, %  не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егламентиру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жира, %  не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 толще фарша, °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лажден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ше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оже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ше -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порции,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,-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4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840"/>
                            </p:stCondLst>
                            <p:childTnLst>
                              <p:par>
                                <p:cTn id="221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2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3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4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Bodoni MT Black"/>
              </a:rPr>
              <a:t>Характеристика пельме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1125360"/>
          <a:ext cx="8389800" cy="5585040"/>
        </p:xfrm>
        <a:graphic>
          <a:graphicData uri="http://schemas.openxmlformats.org/drawingml/2006/table">
            <a:tbl>
              <a:tblPr/>
              <a:tblGrid>
                <a:gridCol w="3398760"/>
                <a:gridCol w="938160"/>
                <a:gridCol w="963720"/>
                <a:gridCol w="938160"/>
                <a:gridCol w="936720"/>
                <a:gridCol w="121428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ирские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яж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н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продукт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льмени имеют форму полукруга, поверхность сухая, края хорошо заделаны, фарш не выступает.  Не допускаются слипшиеся в комки и Деформирова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 толще пельме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ше - 10ºС. При встряхивании коробки слышится отчетливый зв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 и зап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вареных пельменей приятный, свойственный заложенному сырью, с выраженным ароматом пряностей, без постороннего привкуса и запаха.  Фарш сочный, в меру соленый, тесто не должно разрыва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мясного фарша, в % к весу пельменей, не мен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жира, в % к весу пельменей, не мен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соли, в % к весу пельменей, не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щина теста, мм, не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щина теста в местах заделки , мм, не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1 пельменя,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60"/>
                            </p:stCondLst>
                            <p:childTnLst>
                              <p:par>
                                <p:cTn id="2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60"/>
                            </p:stCondLst>
                            <p:childTnLst>
                              <p:par>
                                <p:cTn id="247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8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9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0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Berlin Sans FB Demi"/>
              </a:rPr>
              <a:t>Качественные показатели кот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5068800"/>
        </p:xfrm>
        <a:graphic>
          <a:graphicData uri="http://schemas.openxmlformats.org/drawingml/2006/table">
            <a:tbl>
              <a:tblPr/>
              <a:tblGrid>
                <a:gridCol w="3497400"/>
                <a:gridCol w="47322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отлет круглая или оваль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рхность, равномерно пан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арной мукой, без разорв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маных кра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а разре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ш хорошо перемеш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 и зап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р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ре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йственные доброкачественному сыр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ы иметь приятный вкус и аром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исте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реных котлет – сочная, некрошли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влаги, %  не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ев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леба, %  не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ев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соли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 –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порции,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6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160"/>
                            </p:stCondLst>
                            <p:childTnLst>
                              <p:par>
                                <p:cTn id="273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5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6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6:49:37Z</dcterms:created>
  <dc:creator>123</dc:creator>
  <dc:description/>
  <dc:language>en-US</dc:language>
  <cp:lastModifiedBy>Венерочка</cp:lastModifiedBy>
  <dcterms:modified xsi:type="dcterms:W3CDTF">2010-10-18T18:27:22Z</dcterms:modified>
  <cp:revision>3</cp:revision>
  <dc:subject/>
  <dc:title>Организация экспериментальных исследований при оценке мясных продуктов</dc:title>
</cp:coreProperties>
</file>